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39098"/>
        <c:axId val="57161204"/>
      </c:barChart>
      <c:catAx>
        <c:axId val="39039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1204"/>
        <c:crosses val="autoZero"/>
        <c:auto val="1"/>
        <c:lblAlgn val="ctr"/>
        <c:lblOffset val="100"/>
        <c:noMultiLvlLbl val="0"/>
      </c:catAx>
      <c:valAx>
        <c:axId val="57161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39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95C-7F56-486D-A252-9FC185CF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983-F4C1-49D3-9EE7-3A34CEB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E36-DECA-4FA5-A436-72234576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9C6-7688-476F-ACB4-FFAC9E11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445-1A70-49A7-B089-E06E1A82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909-9D09-4762-86D3-875875F1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0D7-D327-4FC4-975C-61736E1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378-7C11-4162-AC50-86F995E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981-B14B-450B-B229-52E3089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99E-616D-4608-9F37-C22EFCBD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353-64A8-4A42-B7FC-7894B83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8FD-3942-43CA-8A5A-735D2FB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A1EBC-6A3B-4026-9E80-954763A89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